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D4444FAA-3A33-418A-9875-5147488389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1F0-B35C-40A5-AC70-349EDAEF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E82-EE11-4282-8F40-E4A02347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22E-EC13-4A64-8866-BBFE6638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070-F3B2-4C4A-ADD3-E74331E4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C6C-7211-4985-BB21-F3F67DC5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15F-3473-45B9-B0C0-20654E80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F64-A980-4837-9604-E7E2515B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9E9-98D9-4011-BBB2-A584A50D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90C-A129-4287-8419-567F29FE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5BB-A26A-453D-AE55-64D316BE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558-E160-4A56-B95D-9751F23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38B-0713-4272-B43F-0469AF33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133F87-31A6-405D-90E5-F3B2FC799A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95120" y="2065320"/>
            <a:ext cx="7970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You Are My Everything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655560"/>
            <a:ext cx="9067680" cy="51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hy you love me so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ill I ever know?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hat you see in m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eyond my frailty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I can be myself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In my prayer with you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know me so well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No mask I wear with you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655560"/>
            <a:ext cx="906768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love of my soul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One who makes whol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y everything, You ar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39760" y="655560"/>
            <a:ext cx="9524880" cy="51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say I’m perfectly mad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say I’m covered in grac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Unconditionally loved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y sin recalled no mor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I can hear Your voic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In the still of the night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reveal the cours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plan You have for my lif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655560"/>
            <a:ext cx="906768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love of my soul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One who makes whol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y everything, You ar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7480" y="655560"/>
            <a:ext cx="999324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You hold my heart in your hand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Speak to me tenderly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And, I am unafraid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Your love for me runs deep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I let my guard down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Cause I’m safe with You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And in Your presence I’ve found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No greater refuge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68360" y="655560"/>
            <a:ext cx="906768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love of my soul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One who makes whol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y everything, You ar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cwade</cp:lastModifiedBy>
  <dcterms:modified xsi:type="dcterms:W3CDTF">2016-09-06T05:22:44Z</dcterms:modified>
  <cp:revision>1918</cp:revision>
  <dc:subject/>
  <dc:title>Slide 1</dc:title>
</cp:coreProperties>
</file>